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25D-F01E-455C-A60E-D3028A40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D47-D59B-4F3B-8A2B-AA2F8609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49E-5B11-4850-BA5F-27E22EF7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F3B-0A41-49E5-B855-C09987CD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F98E-FC65-4A66-B1E5-A6600604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DC96-0799-4CDE-88F9-8E6ABB9C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A68-E62C-42EF-80B4-C72194D9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CC1B-1A7D-4BE3-B6A3-9697F3B5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CB4A-FF09-4151-9B53-3ADA640F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FE87-5FE1-4658-A3FA-FBA12EE6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05D7-7D7A-47C7-A8CB-300687E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B69-1C37-4888-8ECC-0AA7051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87E2-7FFE-4304-BA12-6ABF0CF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759B-71D4-4FB3-BACD-1CB5DB3A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3E20-C317-4104-8D83-7D0EBB6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8CFC-E671-405B-A070-E02CB22A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E762-B311-4727-B4CC-0AC0B831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C3C-B919-410A-9542-8DEA2D93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C39-6E52-4535-BBE2-F90E67AF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380-26C6-40D7-827F-579E6708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DE4-9D23-434E-964A-955499B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999-C2E3-4A10-A7F6-DC8B741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EF1-158F-4299-94F4-912ADBDF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94D-D7F6-40CB-832B-897CBC1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103-F29C-4737-ADD8-99E4B6CC8E86}" type="slidenum">
              <a:rPr b="0" lang="is-I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ógó bara merkið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Logo_hsa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Lógó bara merkið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Logo_hsa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2F0-679C-4A00-8574-A71832C4E863}" type="slidenum">
              <a:rPr b="0" lang="is-I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122480"/>
            <a:ext cx="9036000" cy="16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800" spc="-1" strike="noStrike">
                <a:solidFill>
                  <a:srgbClr val="000000"/>
                </a:solidFill>
                <a:latin typeface="Arial"/>
              </a:rPr>
              <a:t>Verktaka lækna á lands- </a:t>
            </a:r>
            <a:br>
              <a:rPr sz="4800"/>
            </a:br>
            <a:r>
              <a:rPr b="1" lang="is-IS" sz="4800" spc="-1" strike="noStrike">
                <a:solidFill>
                  <a:srgbClr val="000000"/>
                </a:solidFill>
                <a:latin typeface="Arial"/>
              </a:rPr>
              <a:t>byggðinni; kostir og gall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Pétur Heimisson heimilislæknir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                framkvæmdastjóri lækninga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Heilbrigðisstofnun Austu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vað veldur – er til ráð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Alþjóðlegt vandam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Byggðaþró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aunakjö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; skipulag og inniha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tefna/stefnuleysi stjórnva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Verknám læknanema í heilsugæslu úti á la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 við HÍ er 6 ár (vetur)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800" spc="-1" strike="noStrike">
                <a:solidFill>
                  <a:srgbClr val="000000"/>
                </a:solidFill>
                <a:latin typeface="Arial"/>
              </a:rPr>
              <a:t>Verknám læknanema í heilsugæslu úti á lan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anám við HÍ er 6 ár (vetur)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Verknám í heilsugæslu úti á landi  á þessum 6 árum er  </a:t>
            </a:r>
            <a:r>
              <a:rPr b="1" lang="is-IS" sz="3200" spc="-1" strike="noStrike" u="sng">
                <a:solidFill>
                  <a:srgbClr val="000000"/>
                </a:solidFill>
                <a:uFillTx/>
                <a:latin typeface="Arial"/>
              </a:rPr>
              <a:t>5  HEILIR   dagar </a:t>
            </a: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3200"/>
            </a:b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Við skömmtun á lækni skal nota minnsta nægilega virkan skammt og hæfilega lengi </a:t>
            </a:r>
            <a:br>
              <a:rPr sz="3200"/>
            </a:b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Við breytingar;  ATHUGIÐ 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Lækni skal bara nota þegar við á og annað þjónustustig gagnast ekki a.m.k jafnvel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Við skömmtun á lækni skal nota minnsta nægilega virkan skammt og hæfilega lengi </a:t>
            </a:r>
            <a:br>
              <a:rPr sz="2400"/>
            </a:br>
            <a:r>
              <a:rPr b="0" lang="is-I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Ofskömmtun lyfja er oft mjög hættuleg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164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s-IS" sz="6000" spc="-1" strike="noStrike">
                <a:solidFill>
                  <a:srgbClr val="000000"/>
                </a:solidFill>
                <a:latin typeface="Arial"/>
              </a:rPr>
              <a:t>TAKK  FYRIR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Efnistök“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eimildir mínar um verktöku lækn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Með lögum skal land bygg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lutverk heilsugæslu á landsbyggði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Um verktökuna sjálfa; umfang, eðli, regl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Hvað veldur og er til ráða 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elstu heimildir mínar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Ég kem mikið að ráðningum lækna í H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Upplýsingar úr rekstri H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amtölum við verktakalækna / aðra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Samtskipti við aðra framkv.stjóra læknin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Lög um heilbrigðisþjónu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s-IS" sz="3200" spc="-1" strike="noStrike">
                <a:solidFill>
                  <a:srgbClr val="000000"/>
                </a:solidFill>
                <a:latin typeface="Arial"/>
              </a:rPr>
              <a:t>1.gr.  segir m.a. um markmið þeirra að:</a:t>
            </a:r>
            <a:br>
              <a:rPr sz="3200"/>
            </a:br>
            <a:br>
              <a:rPr sz="3200"/>
            </a:b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.............allir landsmenn eigi kost á fullkomnustu heilbrigðisþjónustu sem á hverjum tíma eru tök á að veita til verndar andlegri, líkamlegri og félagslegri heilbrigði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000000"/>
                </a:solidFill>
                <a:latin typeface="Arial"/>
              </a:rPr>
              <a:t>Hlutverk heilsugæslu úti á lan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Er oft eini möguleiki til  fyrstu heilbrigðisþjónustu.</a:t>
            </a:r>
            <a:br>
              <a:rPr sz="2800"/>
            </a:b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Sinnir í byrjun öllum heilsufarsvanda, stórum og smáum, slysum og veikindum, allan sólarhringinn </a:t>
            </a:r>
            <a:br>
              <a:rPr sz="2800"/>
            </a:b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erkefni sem í Rvík deilast á; heilsugæslu, einka-reknar sérfræðistofur, slysadeild Landspítala o.fl.</a:t>
            </a:r>
            <a:br>
              <a:rPr sz="2800"/>
            </a:b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Vorfundur LH 22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000000"/>
                </a:solidFill>
                <a:latin typeface="Arial"/>
              </a:rPr>
              <a:t>Læknar í heilsugæslu úti á landi </a:t>
            </a:r>
            <a:br>
              <a:rPr sz="3200"/>
            </a:br>
            <a:r>
              <a:rPr b="1" lang="is-I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2" descr=""/>
          <p:cNvPicPr/>
          <p:nvPr/>
        </p:nvPicPr>
        <p:blipFill>
          <a:blip r:embed="rId1"/>
          <a:stretch/>
        </p:blipFill>
        <p:spPr>
          <a:xfrm>
            <a:off x="347760" y="1639800"/>
            <a:ext cx="8339040" cy="448632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00000"/>
                </a:solidFill>
                <a:latin typeface="Arial"/>
              </a:rPr>
              <a:t>Fræðsludagur FÍH 03.03.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70c0"/>
                </a:solidFill>
                <a:latin typeface="Arial"/>
              </a:rPr>
              <a:t>Sjúkrahúslæk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hart 2"/>
          <p:cNvGraphicFramePr/>
          <p:nvPr/>
        </p:nvGraphicFramePr>
        <p:xfrm>
          <a:off x="2073240" y="1793880"/>
          <a:ext cx="5070600" cy="35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1793880"/>
                    <a:ext cx="50706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8160" cy="72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200" spc="-1" strike="noStrike">
                <a:solidFill>
                  <a:srgbClr val="0070c0"/>
                </a:solidFill>
                <a:latin typeface="Arial"/>
              </a:rPr>
              <a:t>Heilsugæslulæk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Chart 3"/>
          <p:cNvGraphicFramePr/>
          <p:nvPr/>
        </p:nvGraphicFramePr>
        <p:xfrm>
          <a:off x="2000160" y="1793880"/>
          <a:ext cx="521496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Char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793880"/>
                    <a:ext cx="521496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3:52:36Z</dcterms:created>
  <dc:creator>steinunna</dc:creator>
  <dc:description/>
  <dc:language>en-US</dc:language>
  <cp:lastModifiedBy>Rósa Marinósdóttir</cp:lastModifiedBy>
  <dcterms:modified xsi:type="dcterms:W3CDTF">2018-06-05T10:05:58Z</dcterms:modified>
  <cp:revision>168</cp:revision>
  <dc:subject/>
  <dc:title>Slide 1</dc:title>
</cp:coreProperties>
</file>