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FB7-B08E-4476-A58B-4E858515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2D8-34F0-4CD1-A2D7-44B6E1F8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00B-03F5-4B3A-AAE1-22C77AC3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FFC-D8FF-4AD4-A05D-9E6626C7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AF0-9F3F-45B5-BA38-81C5C431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3BA-0CE3-4220-A492-39681A06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DD9-374F-41E0-A71B-CAF529F4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0C5-0462-4D4A-9EF8-B762398A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408-2267-41F2-B763-A925FAA7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D62-0AEB-4F9B-9A76-51C0026F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D7C-5057-49A5-99BE-FA094B7D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28B-91BB-44F2-8C66-2030A3CD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084F-88D7-43F4-AF77-16741C5807A1}" type="slidenum">
              <a:rPr b="0" lang="is-I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62520"/>
            <a:ext cx="7772400" cy="14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ldrun, stærsta v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lbr.stofnana eða verðugt verkefni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32640"/>
            <a:ext cx="6400800" cy="5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fundur LH 30.04. 20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ý hjúkrunarrými skapa möguleika á að nýta eldra húsnæði fyrir aðra þjónus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d. sérfræði- og göngudeildarþjónusta, aðstaða fyrir heimahjúkrun og rýmkun fyrir aðra starfse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knar lyflækningar á umdæmis-sjúkrahúsum, samdráttur í skurð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79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jölgun aldraðra og styttri dvalartími á hjúkrunarheimilum krefst sífellt öflugri heimahjúkru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lbrigðisþjónusta í heimahúsum krefst samstarfs ýmissa heilbrigðisstétta, hj.fræðinga, lækna, iðju- og sjúkraþjálfara, sálfræðinga of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starf við félagsþjónus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83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Times New Roman"/>
              </a:rPr>
              <a:t>Niðurstaða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Starfsemi og þjónusta breytist í tímans 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Nýting húsnæðis breytist í samræmi við breyttar þarfir og kröf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Heilsugæsla kjarninn í þjónustun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Stöðugt aukin heilbrigðisþjónusta við aldraða á heilsu.g og í heimahús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Aðstæður ráða hvort heilbr.st. verði með hj.rý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jónarhorn landsbyggða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Þarf heilbr.stofnanir með fjölda hj.rým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Þróun síðustu ára og næstu ári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ni heilbr.stofnanir að breytast í hj.heimil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tíðarsý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fnumörkun heilbrigðisyfirva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júkrunarrými – heimahjúkru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Þróun heilsugæslu-, sérfræði og sjúkrahúsþjónustu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æknis- hjúkrunar- og önnur sérfræðiþjónusta við hj.heimili, mönnu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snæð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54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Users\MS\AppData\Local\Microsoft\Windows\Temporary Internet Files\Content.Outlook\H2IRLXFU\Heilbrigdisumdaem_og_stofnanir .jpg"/>
          <p:cNvPicPr/>
          <p:nvPr/>
        </p:nvPicPr>
        <p:blipFill>
          <a:blip r:embed="rId3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fssemi heilbrigðisstofn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lsugæsla, 40 – 50 % af fjá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júkrasvið, 20 – 40 % af fjá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júkrunarrými, 10 – 30 % af fjá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59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jöldi hjúkrunarrý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tals á landinu um 2500 rý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Þar af á heilbrigðisstofnunum um 350 rými eða ca. 14 %  af heildarfjölda rý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63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járveitingar til hjúkrunarrý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tals um 22,3 milljarðar 20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Þar af hjúkrunarrými á heilbrigðisstofnunum um 3,5 milljarðar eða um 15,5 % af heildarfjárveitingum til hjúkrunarrý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67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dri sjúkrarými hefur víða þurft að nýta sem hjúkrunarrý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fa verið lagfærð misjafnlega miki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jöfn aðstaða, kröfur víða ekki uppfylltar varðandi t.d. einbýli og w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ý hjúkrunarrými t.d. á Selfossi og í byggingu á Ísafirði og Egilsstöð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71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fnumörkun stjórnval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mahjúkrun, lög um heilbr.þ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júkrun aldraðra, lög um heilbr.þj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júkrunarheimili og hjúkrunarrými á öldrunarstofnunum, lög um málefni aldrað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002880" cy="123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2"/>
          <a:stretch/>
        </p:blipFill>
        <p:spPr>
          <a:xfrm>
            <a:off x="0" y="6627960"/>
            <a:ext cx="9145440" cy="230040"/>
          </a:xfrm>
          <a:prstGeom prst="rect">
            <a:avLst/>
          </a:prstGeom>
          <a:ln w="0">
            <a:noFill/>
          </a:ln>
        </p:spPr>
      </p:pic>
      <p:sp>
        <p:nvSpPr>
          <p:cNvPr id="75" name="Picture 1"/>
          <p:cNvSpPr/>
          <p:nvPr/>
        </p:nvSpPr>
        <p:spPr>
          <a:xfrm>
            <a:off x="4076640" y="2965320"/>
            <a:ext cx="990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0:11:24Z</dcterms:created>
  <dc:creator>Guðjón Davíð</dc:creator>
  <dc:description/>
  <dc:language>en-US</dc:language>
  <cp:lastModifiedBy>Magnús Skúlason</cp:lastModifiedBy>
  <cp:lastPrinted>2014-04-23T09:33:15Z</cp:lastPrinted>
  <dcterms:modified xsi:type="dcterms:W3CDTF">2014-05-08T08:44:55Z</dcterms:modified>
  <cp:revision>38</cp:revision>
  <dc:subject/>
  <dc:title>PowerPoint Presentation</dc:title>
</cp:coreProperties>
</file>