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6E09-FCE9-468D-BF4C-ED1C1EBC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04CE-F6A7-4992-A2B8-4DA6039A0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6ED8-10D3-4FBD-81C6-1A29502ED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DC93-47C8-448A-A813-FCFA7A0E7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8E4A-D5DD-49CE-952E-F4FC10A0CA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4374-ABA4-4929-B9E2-4325415EF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FD81-CD4D-4571-BF76-05279037F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80AC-43FC-4D38-96CD-3A802580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1648-61C7-4A08-B8A2-3523F8E0A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680C-7D5C-41D7-9144-336321BCA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4650-989E-4CB1-91D8-D12189FC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9AE1-20BC-4EB0-8A42-FE0E33029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s-I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1D10-96A9-4573-8675-884EDA0E9FAE}" type="slidenum">
              <a:rPr b="0" lang="is-I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lbrigðisstofnun Austurl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imahjúkru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na Hrönn Gunnarsdótt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kvæmdastjóri hjúkru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ulag heimahjúkru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gun-, kvöld- og helgar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lsstaðir,Fjarðabyggð (Fáskrúðsfjörður, Reyðarfjörður, Eskifjörður), Neskaupsta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g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yðisfjörður, Djúpivogur, Breiðdalsvík, Stöðvarfjörður, Borgarfjör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ningur við sveitafé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pnafjör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vinna heimahjúkrun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g heimaþjónus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844640"/>
            <a:ext cx="82281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t samsta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shóps-tey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ji til góðra ver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ndranir í samstarfi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imahjúkrunar og heimaþjónustu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2205000"/>
            <a:ext cx="82281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jaldskyld 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Þröngt skilgreint starfssvi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mark á þjónus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47640" y="1944720"/>
            <a:ext cx="784872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Takk fyri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743280" y="503280"/>
            <a:ext cx="49878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3:52:36Z</dcterms:created>
  <dc:creator>steinunna</dc:creator>
  <dc:description/>
  <cp:keywords/>
  <dc:language>en-US</dc:language>
  <cp:lastModifiedBy>Nína Hrönn Gunnarsdóttir</cp:lastModifiedBy>
  <dcterms:modified xsi:type="dcterms:W3CDTF">2016-04-14T23:40:34Z</dcterms:modified>
  <cp:revision>12</cp:revision>
  <dc:subject/>
  <dc:title>Slide 1</dc:title>
</cp:coreProperties>
</file>