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E70-63ED-4C65-A875-7F452BC785DA}" type="slidenum"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9DC5-EFB3-43BE-8289-CFDCBC31558B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Í reglugerð með lögum um heilbrigðisþjónustu er kveðið á um hlutverk heilsugæslustöðva og kemur þar skýrt fram hvaða þjónustu er skylt að ve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ssi þjónusta er umfangsmikil og heyrir það til undantekninga að einn starfsmaður komi að hen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Auðvitað er bráðaþjónusta á landsbyggðinni í höndum lækna sem ganga vaktir einir, en þeir hafa sér til stuðnings sjúkraflutningamenn ef þörf er á aðstoð við alvarlegri atvi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Hinni daglegu þjónustu er sinnt af mismunandi aðilum, læknum, hjúkrunarfræðingum, ljósmæðrum, sjúkraliðum, sjúkraflutningamönnum og stundum sálfræðingum með aðstoð móttökuritara og læknarita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gar talað er um teymisvinnu er átt við að aðilar úr mismunandi fagstéttum komi að við að leysa vandamál skjólstæð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402C-B240-4235-BC56-4D44C7AD1155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6760" y="117936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8DA7-4BD6-4442-9751-B2DECFA52EB8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870-AD3F-4002-AF47-E881DDC72B40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Er það ekki þannig að sami læknir sinni öllum sykursjúkum eða öllum í lífstílsmóttöku heldur að sami hjúkrunarfræðingur og læknir fylgi sama skjólstæðin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annig eru teymi hvers skjólstæðings mismunandi samse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ED7-B82B-43AF-8F65-A077D73EB360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C7F-B4FB-40AD-A0D6-6247EED1CD46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105-E3EA-4A6E-942B-E41BBB76768D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3922-9A94-417E-A2BA-CEA6E1DB9508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44D-276A-472B-AE56-8A6B0011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D8E-9A4B-4799-B4A0-96337A19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20C-1738-4810-A5DB-F9123B97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4FB-76FC-4533-B5CC-7080E5CB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719A-4119-41CF-9D6A-41E4AC16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F383-C7D0-42BA-8CE5-1AF7BDE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27D-57D5-4902-B74E-DA32BE82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D176-6AF8-4B7C-BD16-F1B011E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F72-5F30-4939-A931-A419FD5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39E6-C680-4868-8DCB-0C0894F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426-2099-404D-8426-65C7F15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7BC-3133-4AFA-8C9B-92249F2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1A50-EFF7-428D-BCE3-F9F629C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4A2B-380F-42C4-8CA2-556A16E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7F23-8507-4422-B553-ADEFC85D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D6E-EB7E-44EC-87E7-D765A393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EA79-69B0-41DE-9492-4874A92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461-98AB-427A-B018-B1157D7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D18-CF67-4B61-9E1B-6769347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BFF-51E8-436F-8D66-ED0B37E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260-3587-4E43-84D6-E70E7AD3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15B-07A0-449B-A95D-4D1FE5F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7B0-1D4F-40FF-89ED-96AED4D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001-E652-4092-9DEE-4C63528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1752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938-1E27-4A19-8975-239BA1B680FB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762120" y="0"/>
            <a:ext cx="7451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182880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5" name="Picture 9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914400" y="0"/>
            <a:ext cx="745164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9FF7-D136-4D1A-B388-35ED7E24F368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1709640"/>
            <a:ext cx="6170760" cy="9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innan heilsugæslu á landsbyggðinni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71640" y="4581360"/>
            <a:ext cx="559440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010000"/>
                </a:solidFill>
                <a:latin typeface="Arial"/>
              </a:rPr>
              <a:t>Vorfundur Landssambands heilbrigðisstofnanna 14. apríl 2016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Linda Kristjánsdóttir sviðstjóri lækninga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Rósa Marinósdóttir sviðsstjóri hjúkrunar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1196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eilsugæsla er ekki „læknamiðstöð“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2244240"/>
            <a:ext cx="5959440" cy="32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Heilsugæslustöðvar sinna heilsugæslu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Með heilsugæslu er m.a. átt við almennar lækningar, hjúkrun, heilsuvernd, forvarnir og bráða- og slysamóttöku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Skylduhlutverkin eru t.d. ung- og smábarnavernd, skólaheilsugæsla,  mæðravernd og heimahjúkrun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Getur alls ekki gengið að hugsa um fagstéttirnar sem sjálfstæðar óháðar öðrum, heldur þarf að samnýta þekkingu og krafta til að leysa verkefnin sem best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að er teymisvinna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Fyrir mörgum er það teymisvinna þegar margir aðilar koma að sama vandamáli á sama tíma á sama sta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Í okkar huga er teymisvinna þegar mismunandi fagaðilar vinna að sama marki að leysa vanda skjólstæðingsins, stundum á sama stað á sama tíma og stundum ekki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0" y="112536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ers erum við bættari með teymisvinnu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tryggjum betra utanumhald þar sem fleiri en einn aðili koma að eftirliti og meðferð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nýtum mismunandi þekkingu við lausn vandans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kjólstæðingur hefur fleiri möguleika á úrlausn síns vanda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tyrkur bæði fyrir fagfólk og skjólstæðing</a:t>
            </a:r>
            <a:r>
              <a:rPr b="0" lang="is-IS" sz="2400" spc="-1" strike="noStrike">
                <a:solidFill>
                  <a:srgbClr val="77777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Teymi á heilsugæslustöðvum HV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Heimahjúkrun : Teymi sjúkraliða,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Ungbarnanvernd og skólaheilsugæsla: Teymi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ðravernd: Teymi ljósmóður og læknis með aðstoð næringarfræðings og væntanlega sálfræðings á næstunni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 á heilsugæslustöðvum HVE frh.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Sykursýkismóttaka: Teymi hjúkrunarfræðings og læknis, með aðstoð næringarfræðings, hreyfistjóra og væntalega sálfræðings á næstunni, aðgangur að sérfræðingsþjónustu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Lífstílsmóttaka: Hjúkrunarmóttaka, vinnur í teymi með lækni, næringarfræðingi, hreyfistjóra og væntanlega sálfræðingi á næstunni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Bráða- og slysamóttaka á dagvinnutíma: Teymi hjúkrunarfræðings og læknis, með aðstoð sjúkraflutninga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112500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þar sem verktakar sinna læknisþjónustu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 og skjólstæðingur velja lækni í teymið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Sömu læknarnir koma með ákveðnu millibili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inn stýrir teyminu á þessum heilsugæslustöðvum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Lokaorð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eljum að teymisvinna skili almennt betri árangri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lum með að hún sé nýtt á sem flestum stöðum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ikilvægt að þeir sem sinni afmörkuðum verkefnum haldi sér vel við faglega og geti miðlað sinni þekkingu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raust þarf að ríkja bæði milli fagfólks og milli sjúklings og fagfólk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8:52Z</dcterms:created>
  <dc:creator>Rósa Marinósdóttir</dc:creator>
  <dc:description/>
  <dc:language>en-US</dc:language>
  <cp:lastModifiedBy>Linda Kristjánsdóttir</cp:lastModifiedBy>
  <cp:lastPrinted>2016-04-13T14:06:14Z</cp:lastPrinted>
  <dcterms:modified xsi:type="dcterms:W3CDTF">2016-04-13T21:08:17Z</dcterms:modified>
  <cp:revision>8</cp:revision>
  <dc:subject/>
  <dc:title>PowerPoint Presentation</dc:title>
</cp:coreProperties>
</file>