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777777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77777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7"/>
          </p:nvPr>
        </p:nvSpPr>
        <p:spPr>
          <a:xfrm>
            <a:off x="3849840" y="-360"/>
            <a:ext cx="29462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s-I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6760" y="1240920"/>
            <a:ext cx="4464000" cy="3349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f5f5f"/>
                </a:solidFill>
                <a:latin typeface="Calibri"/>
              </a:rPr>
              <a:t>Click to move the slide</a:t>
            </a:r>
            <a:endParaRPr b="1" lang="en-US" sz="40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79320" y="477792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8"/>
          </p:nvPr>
        </p:nvSpPr>
        <p:spPr>
          <a:xfrm>
            <a:off x="0" y="9429840"/>
            <a:ext cx="29462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77777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9"/>
          </p:nvPr>
        </p:nvSpPr>
        <p:spPr>
          <a:xfrm>
            <a:off x="3849840" y="9429840"/>
            <a:ext cx="29462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s-I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6A108-0307-4EE0-A2F2-52F8951E4458}" type="slidenum">
              <a:rPr b="0" lang="is-I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66760" y="1241280"/>
            <a:ext cx="4464000" cy="33498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79320" y="477792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s-I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Slide Number Placeholder 3"/>
          <p:cNvSpPr/>
          <p:nvPr/>
        </p:nvSpPr>
        <p:spPr>
          <a:xfrm>
            <a:off x="3849840" y="9429840"/>
            <a:ext cx="294624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D2E9B-9407-433C-B328-C7F235689561}" type="slidenum">
              <a:rPr b="0" lang="is-IS" sz="1200" spc="-1" strike="noStrike">
                <a:solidFill>
                  <a:srgbClr val="77777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777777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66760" y="1241280"/>
            <a:ext cx="4464000" cy="33498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79320" y="477792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1200" spc="-1" strike="noStrike">
                <a:solidFill>
                  <a:srgbClr val="000000"/>
                </a:solidFill>
                <a:latin typeface="Calibri"/>
              </a:rPr>
              <a:t>Í reglugerð með lögum um heilbrigðisþjónustu er kveðið á um hlutverk heilsugæslustöðva og kemur þar skýrt fram hvaða þjónustu er skylt að veit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1200" spc="-1" strike="noStrike">
                <a:solidFill>
                  <a:srgbClr val="000000"/>
                </a:solidFill>
                <a:latin typeface="Calibri"/>
              </a:rPr>
              <a:t>Þessi þjónusta er umfangsmikil og heyrir það til undantekninga að einn starfsmaður komi að henni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1200" spc="-1" strike="noStrike">
                <a:solidFill>
                  <a:srgbClr val="000000"/>
                </a:solidFill>
                <a:latin typeface="Calibri"/>
              </a:rPr>
              <a:t>Auðvitað er bráðaþjónusta á landsbyggðinni í höndum lækna sem ganga vaktir einir, en þeir hafa sér til stuðnings sjúkraflutningamenn ef þörf er á aðstoð við alvarlegri atvik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1200" spc="-1" strike="noStrike">
                <a:solidFill>
                  <a:srgbClr val="000000"/>
                </a:solidFill>
                <a:latin typeface="Calibri"/>
              </a:rPr>
              <a:t>Hinni daglegu þjónustu er sinnt af mismunandi aðilum, læknum, hjúkrunarfræðingum, ljósmæðrum, sjúkraliðum, sjúkraflutningamönnum og stundum sálfræðingum með aðstoð móttökuritara og læknaritar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1200" spc="-1" strike="noStrike">
                <a:solidFill>
                  <a:srgbClr val="000000"/>
                </a:solidFill>
                <a:latin typeface="Calibri"/>
              </a:rPr>
              <a:t>Þegar talað er um teymisvinnu er átt við að aðilar úr mismunandi fagstéttum komi að við að leysa vandamál skjólstæðing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49840" y="9429840"/>
            <a:ext cx="294624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83653-80F0-46FB-B6EA-AF7F674EB0BE}" type="slidenum">
              <a:rPr b="0" lang="is-IS" sz="1200" spc="-1" strike="noStrike">
                <a:solidFill>
                  <a:srgbClr val="77777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777777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66760" y="1179360"/>
            <a:ext cx="4464000" cy="33498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79320" y="477792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s-I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49840" y="9429840"/>
            <a:ext cx="294624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C2618-2782-4FE3-9B5B-422A14A3442B}" type="slidenum">
              <a:rPr b="0" lang="is-IS" sz="1200" spc="-1" strike="noStrike">
                <a:solidFill>
                  <a:srgbClr val="77777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777777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66760" y="1241280"/>
            <a:ext cx="4464000" cy="33498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79320" y="477792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s-I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3849840" y="9429840"/>
            <a:ext cx="294624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656F7-DB63-41D3-AE93-049BB4CBE1EF}" type="slidenum">
              <a:rPr b="0" lang="is-IS" sz="1200" spc="-1" strike="noStrike">
                <a:solidFill>
                  <a:srgbClr val="77777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777777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66760" y="1241280"/>
            <a:ext cx="4464000" cy="33498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79320" y="477792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1200" spc="-1" strike="noStrike">
                <a:solidFill>
                  <a:srgbClr val="000000"/>
                </a:solidFill>
                <a:latin typeface="Calibri"/>
              </a:rPr>
              <a:t>Er það ekki þannig að sami læknir sinni öllum sykursjúkum eða öllum í lífstílsmóttöku heldur að sami hjúkrunarfræðingur og læknir fylgi sama skjólstæðingi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1200" spc="-1" strike="noStrike">
                <a:solidFill>
                  <a:srgbClr val="000000"/>
                </a:solidFill>
                <a:latin typeface="Calibri"/>
              </a:rPr>
              <a:t>Þannig eru teymi hvers skjólstæðings mismunandi samset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3849840" y="9429840"/>
            <a:ext cx="294624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18B7B-C68D-4D07-9C6A-74090D380C19}" type="slidenum">
              <a:rPr b="0" lang="is-IS" sz="1200" spc="-1" strike="noStrike">
                <a:solidFill>
                  <a:srgbClr val="77777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777777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66760" y="1241280"/>
            <a:ext cx="4464000" cy="33498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79320" y="477792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s-I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3849840" y="9429840"/>
            <a:ext cx="294624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B1CF1-FD3F-4D7D-A8F7-FF8B048795A6}" type="slidenum">
              <a:rPr b="0" lang="is-IS" sz="1200" spc="-1" strike="noStrike">
                <a:solidFill>
                  <a:srgbClr val="77777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777777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66760" y="1241280"/>
            <a:ext cx="4464000" cy="33498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79320" y="477792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s-I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3849840" y="9429840"/>
            <a:ext cx="294624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E270D-DD27-493C-A817-C52B824E0C93}" type="slidenum">
              <a:rPr b="0" lang="is-IS" sz="1200" spc="-1" strike="noStrike">
                <a:solidFill>
                  <a:srgbClr val="77777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777777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66760" y="1241280"/>
            <a:ext cx="4464000" cy="33498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79320" y="477792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s-I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3849840" y="9429840"/>
            <a:ext cx="294624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E1D4C-8F0C-4427-B692-2E475E40D052}" type="slidenum">
              <a:rPr b="0" lang="is-IS" sz="1200" spc="-1" strike="noStrike">
                <a:solidFill>
                  <a:srgbClr val="77777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777777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FD804-9B5C-468B-80B4-087131A6F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590560" y="990720"/>
            <a:ext cx="609588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514240" y="205740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2514240" y="420696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99AC5-6116-4DD8-BA4B-155DF8B00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590560" y="990720"/>
            <a:ext cx="609588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514240" y="205740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637960" y="205740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514240" y="420696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637960" y="420696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187C3-90C1-4367-BCE3-B1071824C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590560" y="990720"/>
            <a:ext cx="609588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514240" y="205740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5600" y="205740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36600" y="205740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2514240" y="420696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4575600" y="420696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636600" y="420696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F3B49-287D-4C2C-A863-06C647DA7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851C6-32D7-4FA0-AEC2-24D56EEC1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590560" y="990720"/>
            <a:ext cx="609588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2514240" y="205740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4B698-F934-405A-9968-8A7308FEF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590560" y="990720"/>
            <a:ext cx="609588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514240" y="205740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51BDA-0FFA-4850-98A9-7A7D2C39D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590560" y="990720"/>
            <a:ext cx="609588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514240" y="205740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637960" y="205740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2C23B-6B47-419F-9F40-A7F4BDEA7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590560" y="990720"/>
            <a:ext cx="609588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8812D-14EB-4BB7-B61A-84484E517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2590560" y="990720"/>
            <a:ext cx="609588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E9BAA-B81B-4F94-B594-CE0AC2F3D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590560" y="990720"/>
            <a:ext cx="609588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514240" y="205740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637960" y="205740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2514240" y="420696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C6FE3-97EC-4A63-81DC-F24EBD5C2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590560" y="990720"/>
            <a:ext cx="609588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2514240" y="205740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BCFED-3267-4A68-837B-BDB0D8E15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590560" y="990720"/>
            <a:ext cx="609588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14240" y="205740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637960" y="205740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637960" y="420696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E93EE-FBDD-4495-9104-4D2773AA0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590560" y="990720"/>
            <a:ext cx="609588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514240" y="205740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637960" y="205740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514240" y="420696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671CE-CE0C-42F3-8FDE-1DC1C20FB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590560" y="990720"/>
            <a:ext cx="609588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514240" y="205740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2514240" y="420696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3B7E7-B0FE-4E34-BE3F-61E00EB0A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590560" y="990720"/>
            <a:ext cx="609588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514240" y="205740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637960" y="205740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2514240" y="420696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637960" y="420696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09E26-EC00-40A0-AC03-2129E6558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590560" y="990720"/>
            <a:ext cx="609588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514240" y="205740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5600" y="205740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636600" y="205740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2514240" y="420696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4575600" y="420696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636600" y="420696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B9D96-A35A-46FF-B49A-2FA68A201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590560" y="990720"/>
            <a:ext cx="609588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514240" y="205740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05604-43D7-4FC0-9DD4-EE7CDC572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590560" y="990720"/>
            <a:ext cx="609588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514240" y="205740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637960" y="205740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01B59-6C4A-4FE4-A806-7B6D1593E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590560" y="990720"/>
            <a:ext cx="609588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BE537-A4A4-4883-8519-A609A60A3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590560" y="990720"/>
            <a:ext cx="609588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A0F75-165E-4DD9-83E5-795658E1E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590560" y="990720"/>
            <a:ext cx="609588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514240" y="205740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637960" y="205740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2514240" y="420696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CAD2D-1E4C-42E6-B6C3-73274440B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590560" y="990720"/>
            <a:ext cx="609588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514240" y="205740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637960" y="205740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637960" y="420696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F3B71-7C3B-477D-9605-4CFC9619E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590560" y="990720"/>
            <a:ext cx="609588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514240" y="205740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637960" y="205740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514240" y="420696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46C54-E5BD-4C15-98F9-33CA87356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rc 2"/>
          <p:cNvSpPr/>
          <p:nvPr/>
        </p:nvSpPr>
        <p:spPr>
          <a:xfrm>
            <a:off x="0" y="843120"/>
            <a:ext cx="1752480" cy="601812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0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0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77777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590560" y="990720"/>
            <a:ext cx="609588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f5f5f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514240" y="205740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7777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777777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7777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777777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7777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777777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7777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777777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7777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777777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77777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7777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777777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77777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7777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095880"/>
            <a:ext cx="15238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77777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77777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633C7-DCD7-4B96-9715-22E3341341C0}" type="slidenum">
              <a:rPr b="0" lang="en-GB" sz="1400" spc="-1" strike="noStrike">
                <a:solidFill>
                  <a:srgbClr val="ff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8" descr="N:\ROSA\Heilbrstofnun Vesturlands\Logo HVE\HVE-Allir-footer-copy.jpg"/>
          <p:cNvPicPr/>
          <p:nvPr/>
        </p:nvPicPr>
        <p:blipFill>
          <a:blip r:embed="rId2"/>
          <a:stretch/>
        </p:blipFill>
        <p:spPr>
          <a:xfrm>
            <a:off x="762120" y="0"/>
            <a:ext cx="7451640" cy="933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Line 2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777777"/>
              </a:solidFill>
              <a:latin typeface="Times New Roman"/>
            </a:endParaRPr>
          </a:p>
        </p:txBody>
      </p:sp>
      <p:sp>
        <p:nvSpPr>
          <p:cNvPr id="44" name="Arc 3"/>
          <p:cNvSpPr/>
          <p:nvPr/>
        </p:nvSpPr>
        <p:spPr>
          <a:xfrm>
            <a:off x="0" y="843120"/>
            <a:ext cx="1828800" cy="601812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0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0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77777"/>
              </a:solidFill>
              <a:latin typeface="Times New Roman"/>
            </a:endParaRPr>
          </a:p>
        </p:txBody>
      </p:sp>
      <p:pic>
        <p:nvPicPr>
          <p:cNvPr id="45" name="Picture 9" descr="N:\ROSA\Heilbrstofnun Vesturlands\Logo HVE\HVE-Allir-footer-copy.jpg"/>
          <p:cNvPicPr/>
          <p:nvPr/>
        </p:nvPicPr>
        <p:blipFill>
          <a:blip r:embed="rId2"/>
          <a:stretch/>
        </p:blipFill>
        <p:spPr>
          <a:xfrm>
            <a:off x="914400" y="0"/>
            <a:ext cx="7451640" cy="9334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590560" y="990720"/>
            <a:ext cx="609588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f5f5f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2514240" y="205740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7777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777777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7777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777777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7777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777777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7777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777777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7777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777777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77777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7777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777777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77777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7777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77777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77777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76571-F69C-4E47-A6F8-E3A02915CCD1}" type="slidenum">
              <a:rPr b="0" lang="en-GB" sz="1400" spc="-1" strike="noStrike">
                <a:solidFill>
                  <a:srgbClr val="ff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39640" y="1709640"/>
            <a:ext cx="6170760" cy="92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3600" spc="-1" strike="noStrike">
                <a:solidFill>
                  <a:srgbClr val="5f5f5f"/>
                </a:solidFill>
                <a:latin typeface="Calibri"/>
              </a:rPr>
              <a:t>Teymisvinna innan heilsugæslu á landsbyggðinni</a:t>
            </a:r>
            <a:endParaRPr b="1" lang="en-US" sz="36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771640" y="4581360"/>
            <a:ext cx="5594400" cy="150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010000"/>
                </a:solidFill>
                <a:latin typeface="Arial"/>
              </a:rPr>
              <a:t>Vorfundur Landssambands heilbrigðisstofnanna 14. apríl 2016</a:t>
            </a:r>
            <a:endParaRPr b="0" lang="en-US" sz="1400" spc="-1" strike="noStrike">
              <a:solidFill>
                <a:srgbClr val="777777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777777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777777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1400" spc="-1" strike="noStrike">
                <a:solidFill>
                  <a:srgbClr val="010000"/>
                </a:solidFill>
                <a:latin typeface="Arial"/>
              </a:rPr>
              <a:t>Linda Kristjánsdóttir sviðstjóri lækninga í heilsugæslu HVE</a:t>
            </a:r>
            <a:endParaRPr b="0" lang="en-US" sz="1400" spc="-1" strike="noStrike">
              <a:solidFill>
                <a:srgbClr val="777777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1400" spc="-1" strike="noStrike">
                <a:solidFill>
                  <a:srgbClr val="010000"/>
                </a:solidFill>
                <a:latin typeface="Arial"/>
              </a:rPr>
              <a:t>Rósa Marinósdóttir sviðsstjóri hjúkrunar í heilsugæslu HVE</a:t>
            </a:r>
            <a:endParaRPr b="0" lang="en-US" sz="1400" spc="-1" strike="noStrike">
              <a:solidFill>
                <a:srgbClr val="777777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7777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55640" y="1196640"/>
            <a:ext cx="60958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4000" spc="-1" strike="noStrike">
                <a:solidFill>
                  <a:srgbClr val="5f5f5f"/>
                </a:solidFill>
                <a:latin typeface="Calibri"/>
              </a:rPr>
              <a:t>Heilsugæsla er ekki „læknamiðstöð“</a:t>
            </a:r>
            <a:endParaRPr b="1" lang="en-US" sz="40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2556000" y="2244240"/>
            <a:ext cx="5959440" cy="326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ff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7777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1800" spc="-1" strike="noStrike">
                <a:solidFill>
                  <a:srgbClr val="010000"/>
                </a:solidFill>
                <a:latin typeface="Arial"/>
              </a:rPr>
              <a:t>Heilsugæslustöðvar sinna heilsugæslu</a:t>
            </a:r>
            <a:endParaRPr b="0" lang="en-US" sz="1800" spc="-1" strike="noStrike">
              <a:solidFill>
                <a:srgbClr val="777777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5f5f5f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1800" spc="-1" strike="noStrike">
                <a:solidFill>
                  <a:srgbClr val="010000"/>
                </a:solidFill>
                <a:latin typeface="Arial"/>
              </a:rPr>
              <a:t>Með heilsugæslu er m.a. átt við almennar lækningar, hjúkrun, heilsuvernd, forvarnir og bráða- og slysamóttöku.</a:t>
            </a:r>
            <a:endParaRPr b="0" lang="en-US" sz="1800" spc="-1" strike="noStrike">
              <a:solidFill>
                <a:srgbClr val="777777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5f5f5f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777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1800" spc="-1" strike="noStrike">
                <a:solidFill>
                  <a:srgbClr val="010000"/>
                </a:solidFill>
                <a:latin typeface="Arial"/>
              </a:rPr>
              <a:t>Skylduhlutverkin eru t.d. ung- og smábarnavernd, skólaheilsugæsla,  mæðravernd og heimahjúkrun</a:t>
            </a:r>
            <a:endParaRPr b="0" lang="en-US" sz="1800" spc="-1" strike="noStrike">
              <a:solidFill>
                <a:srgbClr val="7777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777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1800" spc="-1" strike="noStrike">
                <a:solidFill>
                  <a:srgbClr val="010000"/>
                </a:solidFill>
                <a:latin typeface="Arial"/>
              </a:rPr>
              <a:t>Getur alls ekki gengið að hugsa um fagstéttirnar sem sjálfstæðar óháðar öðrum, heldur þarf að samnýta þekkingu og krafta til að leysa verkefnin sem best.</a:t>
            </a:r>
            <a:endParaRPr b="0" lang="en-US" sz="1800" spc="-1" strike="noStrike">
              <a:solidFill>
                <a:srgbClr val="7777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77777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5f5f5f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777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90560" y="990720"/>
            <a:ext cx="609588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4000" spc="-1" strike="noStrike">
                <a:solidFill>
                  <a:srgbClr val="5f5f5f"/>
                </a:solidFill>
                <a:latin typeface="Calibri"/>
              </a:rPr>
              <a:t>Hvað er teymisvinna?</a:t>
            </a:r>
            <a:endParaRPr b="1" lang="en-US" sz="40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514240" y="205740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400" spc="-1" strike="noStrike">
                <a:solidFill>
                  <a:srgbClr val="010000"/>
                </a:solidFill>
                <a:latin typeface="Arial"/>
              </a:rPr>
              <a:t>Fyrir mörgum er það teymisvinna þegar margir aðilar koma að sama vandamáli á sama tíma á sama stað</a:t>
            </a:r>
            <a:endParaRPr b="0" lang="en-US" sz="2400" spc="-1" strike="noStrike">
              <a:solidFill>
                <a:srgbClr val="77777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400" spc="-1" strike="noStrike">
                <a:solidFill>
                  <a:srgbClr val="010000"/>
                </a:solidFill>
                <a:latin typeface="Arial"/>
              </a:rPr>
              <a:t>Í okkar huga er teymisvinna þegar mismunandi fagaðilar vinna að sama marki að leysa vanda skjólstæðingsins, stundum á sama stað á sama tíma og stundum ekki.</a:t>
            </a:r>
            <a:endParaRPr b="0" lang="en-US" sz="2400" spc="-1" strike="noStrike">
              <a:solidFill>
                <a:srgbClr val="77777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777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700000" y="1125360"/>
            <a:ext cx="6095880" cy="689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4000" spc="-1" strike="noStrike">
                <a:solidFill>
                  <a:srgbClr val="5f5f5f"/>
                </a:solidFill>
                <a:latin typeface="Calibri"/>
              </a:rPr>
              <a:t>Hvers erum við bættari með teymisvinnu?</a:t>
            </a:r>
            <a:endParaRPr b="1" lang="en-US" sz="40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514240" y="205740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400" spc="-1" strike="noStrike">
                <a:solidFill>
                  <a:srgbClr val="010000"/>
                </a:solidFill>
                <a:latin typeface="Arial"/>
              </a:rPr>
              <a:t>Við tryggjum betra utanumhald þar sem fleiri en einn aðili koma að eftirliti og meðferð.</a:t>
            </a:r>
            <a:endParaRPr b="0" lang="en-US" sz="2400" spc="-1" strike="noStrike">
              <a:solidFill>
                <a:srgbClr val="77777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400" spc="-1" strike="noStrike">
                <a:solidFill>
                  <a:srgbClr val="010000"/>
                </a:solidFill>
                <a:latin typeface="Arial"/>
              </a:rPr>
              <a:t>Við nýtum mismunandi þekkingu við lausn vandans.</a:t>
            </a:r>
            <a:endParaRPr b="0" lang="en-US" sz="2400" spc="-1" strike="noStrike">
              <a:solidFill>
                <a:srgbClr val="77777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400" spc="-1" strike="noStrike">
                <a:solidFill>
                  <a:srgbClr val="010000"/>
                </a:solidFill>
                <a:latin typeface="Arial"/>
              </a:rPr>
              <a:t>Skjólstæðingur hefur fleiri möguleika á úrlausn síns vanda.</a:t>
            </a:r>
            <a:endParaRPr b="0" lang="en-US" sz="2400" spc="-1" strike="noStrike">
              <a:solidFill>
                <a:srgbClr val="77777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400" spc="-1" strike="noStrike">
                <a:solidFill>
                  <a:srgbClr val="010000"/>
                </a:solidFill>
                <a:latin typeface="Arial"/>
              </a:rPr>
              <a:t>Styrkur bæði fyrir fagfólk og skjólstæðing</a:t>
            </a:r>
            <a:r>
              <a:rPr b="0" lang="is-IS" sz="2400" spc="-1" strike="noStrike">
                <a:solidFill>
                  <a:srgbClr val="777777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77777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7777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777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514240" y="1052640"/>
            <a:ext cx="609588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4000" spc="-1" strike="noStrike">
                <a:solidFill>
                  <a:srgbClr val="5f5f5f"/>
                </a:solidFill>
                <a:latin typeface="Calibri"/>
              </a:rPr>
              <a:t>Teymi á heilsugæslustöðvum HVE</a:t>
            </a:r>
            <a:endParaRPr b="1" lang="en-US" sz="40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2514240" y="205740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400" spc="-1" strike="noStrike">
                <a:solidFill>
                  <a:srgbClr val="010000"/>
                </a:solidFill>
                <a:latin typeface="Arial"/>
              </a:rPr>
              <a:t>Heimahjúkrun : Teymi sjúkraliða, hjúkrunarfræðings og læknis</a:t>
            </a:r>
            <a:endParaRPr b="0" lang="en-US" sz="2400" spc="-1" strike="noStrike">
              <a:solidFill>
                <a:srgbClr val="77777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400" spc="-1" strike="noStrike">
                <a:solidFill>
                  <a:srgbClr val="010000"/>
                </a:solidFill>
                <a:latin typeface="Arial"/>
              </a:rPr>
              <a:t>Ungbarnanvernd og skólaheilsugæsla: Teymi hjúkrunarfræðings og læknis</a:t>
            </a:r>
            <a:endParaRPr b="0" lang="en-US" sz="2400" spc="-1" strike="noStrike">
              <a:solidFill>
                <a:srgbClr val="77777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400" spc="-1" strike="noStrike">
                <a:solidFill>
                  <a:srgbClr val="010000"/>
                </a:solidFill>
                <a:latin typeface="Arial"/>
              </a:rPr>
              <a:t>Mæðravernd: Teymi ljósmóður og læknis með aðstoð næringarfræðings og væntanlega sálfræðings á næstunni. </a:t>
            </a:r>
            <a:endParaRPr b="0" lang="en-US" sz="2400" spc="-1" strike="noStrike">
              <a:solidFill>
                <a:srgbClr val="7777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14240" y="1052640"/>
            <a:ext cx="609588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3600" spc="-1" strike="noStrike">
                <a:solidFill>
                  <a:srgbClr val="5f5f5f"/>
                </a:solidFill>
                <a:latin typeface="Calibri"/>
              </a:rPr>
              <a:t>Teymi á heilsugæslustöðvum HVE frh.</a:t>
            </a:r>
            <a:endParaRPr b="1" lang="en-US" sz="36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2514240" y="205740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10000"/>
                </a:solidFill>
                <a:latin typeface="Arial"/>
              </a:rPr>
              <a:t>Sykursýkismóttaka: Teymi hjúkrunarfræðings og læknis, með aðstoð næringarfræðings, hreyfistjóra og væntalega sálfræðings á næstunni, aðgangur að sérfræðingsþjónustu.</a:t>
            </a: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10000"/>
                </a:solidFill>
                <a:latin typeface="Arial"/>
              </a:rPr>
              <a:t>Lífstílsmóttaka: Hjúkrunarmóttaka, vinnur í teymi með lækni, næringarfræðingi, hreyfistjóra og væntanlega sálfræðingi á næstunni</a:t>
            </a: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10000"/>
                </a:solidFill>
                <a:latin typeface="Arial"/>
              </a:rPr>
              <a:t>Bráða- og slysamóttaka á dagvinnutíma: Teymi hjúkrunarfræðings og læknis, með aðstoð sjúkraflutninga. </a:t>
            </a: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514240" y="1125000"/>
            <a:ext cx="60958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3600" spc="-1" strike="noStrike">
                <a:solidFill>
                  <a:srgbClr val="5f5f5f"/>
                </a:solidFill>
                <a:latin typeface="Calibri"/>
              </a:rPr>
              <a:t>Teymisvinna þar sem verktakar sinna læknisþjónustu</a:t>
            </a:r>
            <a:endParaRPr b="1" lang="en-US" sz="36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2514240" y="205740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800" spc="-1" strike="noStrike">
                <a:solidFill>
                  <a:srgbClr val="010000"/>
                </a:solidFill>
                <a:latin typeface="Arial"/>
              </a:rPr>
              <a:t>Hjúkrunarfræðingur og skjólstæðingur velja lækni í teymið.</a:t>
            </a:r>
            <a:endParaRPr b="0" lang="en-US" sz="2800" spc="-1" strike="noStrike">
              <a:solidFill>
                <a:srgbClr val="77777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800" spc="-1" strike="noStrike">
                <a:solidFill>
                  <a:srgbClr val="010000"/>
                </a:solidFill>
                <a:latin typeface="Arial"/>
              </a:rPr>
              <a:t>Sömu læknarnir koma með ákveðnu millibili.</a:t>
            </a:r>
            <a:endParaRPr b="0" lang="en-US" sz="2800" spc="-1" strike="noStrike">
              <a:solidFill>
                <a:srgbClr val="77777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800" spc="-1" strike="noStrike">
                <a:solidFill>
                  <a:srgbClr val="010000"/>
                </a:solidFill>
                <a:latin typeface="Arial"/>
              </a:rPr>
              <a:t>Hjúkrunarfræðingurinn stýrir teyminu á þessum heilsugæslustöðvum.</a:t>
            </a:r>
            <a:endParaRPr b="0" lang="en-US" sz="2800" spc="-1" strike="noStrike">
              <a:solidFill>
                <a:srgbClr val="7777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590560" y="990720"/>
            <a:ext cx="609588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4000" spc="-1" strike="noStrike">
                <a:solidFill>
                  <a:srgbClr val="5f5f5f"/>
                </a:solidFill>
                <a:latin typeface="Calibri"/>
              </a:rPr>
              <a:t>Lokaorð</a:t>
            </a:r>
            <a:endParaRPr b="1" lang="en-US" sz="40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2514240" y="205740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400" spc="-1" strike="noStrike">
                <a:solidFill>
                  <a:srgbClr val="010000"/>
                </a:solidFill>
                <a:latin typeface="Arial"/>
              </a:rPr>
              <a:t>Teljum að teymisvinna skili almennt betri árangri</a:t>
            </a:r>
            <a:endParaRPr b="0" lang="en-US" sz="2400" spc="-1" strike="noStrike">
              <a:solidFill>
                <a:srgbClr val="77777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400" spc="-1" strike="noStrike">
                <a:solidFill>
                  <a:srgbClr val="010000"/>
                </a:solidFill>
                <a:latin typeface="Arial"/>
              </a:rPr>
              <a:t>Mælum með að hún sé nýtt á sem flestum stöðum</a:t>
            </a:r>
            <a:endParaRPr b="0" lang="en-US" sz="2400" spc="-1" strike="noStrike">
              <a:solidFill>
                <a:srgbClr val="77777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400" spc="-1" strike="noStrike">
                <a:solidFill>
                  <a:srgbClr val="010000"/>
                </a:solidFill>
                <a:latin typeface="Arial"/>
              </a:rPr>
              <a:t>Mikilvægt að þeir sem sinni afmörkuðum verkefnum haldi sér vel við faglega og geti miðlað sinni þekkingu</a:t>
            </a:r>
            <a:endParaRPr b="0" lang="en-US" sz="2400" spc="-1" strike="noStrike">
              <a:solidFill>
                <a:srgbClr val="77777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400" spc="-1" strike="noStrike">
                <a:solidFill>
                  <a:srgbClr val="010000"/>
                </a:solidFill>
                <a:latin typeface="Arial"/>
              </a:rPr>
              <a:t>Traust þarf að ríkja bæði milli fagfólks og milli sjúklings og fagfólks</a:t>
            </a:r>
            <a:endParaRPr b="0" lang="en-US" sz="2400" spc="-1" strike="noStrike">
              <a:solidFill>
                <a:srgbClr val="77777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777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7T14:08:52Z</dcterms:created>
  <dc:creator>Rósa Marinósdóttir</dc:creator>
  <dc:description/>
  <dc:language>en-US</dc:language>
  <cp:lastModifiedBy>Linda Kristjánsdóttir</cp:lastModifiedBy>
  <cp:lastPrinted>2016-04-13T14:06:14Z</cp:lastPrinted>
  <dcterms:modified xsi:type="dcterms:W3CDTF">2016-04-13T21:08:17Z</dcterms:modified>
  <cp:revision>8</cp:revision>
  <dc:subject/>
  <dc:title>PowerPoint Presentation</dc:title>
</cp:coreProperties>
</file>